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8999538" cy="6840538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6AD5-5FF0-49E3-865D-6BBC21A2F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8640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927240"/>
            <a:ext cx="8640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C853-4CA4-41FD-A320-54132A61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5A0C-B071-4C8A-A4A0-AC7E525F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680" y="133200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440" y="133200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92724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680" y="392724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440" y="392724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F444-259A-4B43-A7FD-339BE240B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133200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50480"/>
            <a:ext cx="8640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7928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33200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7F3B-7C14-4884-8B6C-7328ABFD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692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3927240"/>
            <a:ext cx="8640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8640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9280" y="3927240"/>
            <a:ext cx="8640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928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692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00680" y="133200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440" y="133200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79280" y="392724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00680" y="392724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440" y="3927240"/>
            <a:ext cx="278208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1C13-3D9B-4754-ACAB-5B825B1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0D45-F5AB-445F-B570-1BF87C9C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9E63-B1F2-494F-994C-A85454B8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50480"/>
            <a:ext cx="8640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5581-185C-4DDB-A5B4-381581E4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4D9E-E14D-4538-9D82-930D81F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392724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2CA8-5CA4-4D91-BB82-D804730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1332000"/>
            <a:ext cx="42163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927240"/>
            <a:ext cx="8640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AD93-B6E2-43A4-B627-D6A2F575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3200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-181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281160">
              <a:spcBef>
                <a:spcPts val="400"/>
              </a:spcBef>
              <a:buClr>
                <a:srgbClr val="000000"/>
              </a:buClr>
              <a:buFont typeface="Lucida Grande"/>
              <a:buChar char="−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74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892080" indent="-266760">
              <a:spcBef>
                <a:spcPts val="400"/>
              </a:spcBef>
              <a:buClr>
                <a:srgbClr val="000000"/>
              </a:buClr>
              <a:buFont typeface="Lucida Grande"/>
              <a:buChar char="−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168560" indent="-2764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168560" indent="-2764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168560" indent="-2764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6427440"/>
            <a:ext cx="151452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98A6-A559-421D-AE47-CA0A50C37589}" type="datetime">
              <a:rPr b="1" lang="fr-FR" sz="1000" spc="-1" strike="noStrike">
                <a:solidFill>
                  <a:srgbClr val="000000"/>
                </a:solidFill>
                <a:latin typeface="Verdana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72440" y="6411960"/>
            <a:ext cx="5587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7260-2618-48E7-BC03-75CE1C542EB8}" type="slidenum">
              <a:rPr b="1" lang="fr-F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5120" y="6477120"/>
            <a:ext cx="563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a3685"/>
                </a:solidFill>
                <a:latin typeface="Verdana"/>
                <a:ea typeface="Arial"/>
              </a:rPr>
              <a:t>RN ARMISTIQ</a:t>
            </a:r>
            <a:r>
              <a:rPr b="1" lang="en-US" sz="1000" spc="-1" strike="noStrike">
                <a:solidFill>
                  <a:srgbClr val="c10053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6960" y="88920"/>
            <a:ext cx="6267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000" y="1600560"/>
            <a:ext cx="8099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174600" indent="0" algn="ctr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450720" algn="ctr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625320" algn="ctr">
              <a:spcBef>
                <a:spcPts val="400"/>
              </a:spcBef>
              <a:buClr>
                <a:srgbClr val="000000"/>
              </a:buClr>
              <a:buFont typeface="Lucida Grande"/>
              <a:buChar char="−"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892080" algn="ctr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892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892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960" y="88920"/>
            <a:ext cx="845316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4600" spc="-1" strike="noStrike">
                <a:solidFill>
                  <a:srgbClr val="ffffff"/>
                </a:solidFill>
                <a:latin typeface="Verdana"/>
              </a:rPr>
              <a:t>ARMISTIQ</a:t>
            </a:r>
            <a:br>
              <a:rPr sz="4600"/>
            </a:br>
            <a:br>
              <a:rPr sz="46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Action A Traitements tertiaires intensif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2280" y="2971800"/>
            <a:ext cx="633888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Verdana"/>
              </a:rPr>
              <a:t>Réunion de projet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ophie BESNAUL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419720"/>
            <a:ext cx="2100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FAA-8BBC-4DE9-AC46-D0F6E240D624}" type="datetime">
              <a:rPr b="1" lang="fr-FR" sz="1400" spc="-1" strike="noStrike">
                <a:solidFill>
                  <a:srgbClr val="ffffff"/>
                </a:solidFill>
                <a:latin typeface="Verdan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Planning détail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cotobre 2010 : 1 diss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 8 au 26 novembre 2010 : ASE1-PA, 8 en semaine 1, 6 en semaine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ril 2011 : ASE2-PA, 5 dissous par semaine, + 2 de ASE1-P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ptembre 2011 : ASE3-PA, 15 diss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D3CB-28EE-4BD5-ABDF-7322789650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25116-4C2C-4D3D-9F6F-142C2093E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Questions/problèmes à résoud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chantillon en octobre, possibilité de l’analyser rapidement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arrivée possible en même temps que échantillons de ACA3-PA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ire fonctionner colonne CA après =&gt; étendre durée ASE1-PA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2D19-E6EB-47F8-AB91-54B8885414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DE82-1251-4D19-88BA-0293F611E0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Action A : Filières de traitement avancés intens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143000"/>
            <a:ext cx="8001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texte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25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Procédés tertiaires avancés éliminent une partie des micropollua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25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nditions opératoires optimales pas encore maîtrisé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25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fficacité de combinaisons de différents procédés pas encore étudiée à l’échelle semi-industriel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25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25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iérarchiser les procédés et déterminer les meilleures filièr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25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éterminer les conditions optimales de fonctionnem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25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Mettre en regard coûts et contexte (capacité, exigence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25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valuer l’impact environnemental de ces procédé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25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FAS%20+%20O3" descr=""/>
          <p:cNvPicPr/>
          <p:nvPr/>
        </p:nvPicPr>
        <p:blipFill>
          <a:blip r:embed="rId1"/>
          <a:stretch/>
        </p:blipFill>
        <p:spPr>
          <a:xfrm>
            <a:off x="3886200" y="4811760"/>
            <a:ext cx="4816440" cy="15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B0C4-9A9A-437D-8DDC-6DB2AA8B1B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61C76-128E-4474-876C-4EE5759B27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Choix des STE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SE1-P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: Filtration sur sable + ozonation + Charbon actif (pilo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Symbol" charset="2"/>
              <a:buChar char="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Bernières sur Mer (1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SE2-P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: BRM suivi d’un pilote d’oxydation avancée (O3/H2O2/U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Symbol" charset="2"/>
              <a:buChar char="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EP BRM en région parisienne à chois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SE3-P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: Pilote d’oxydation avancée en amont/aval d’un F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Symbol" charset="2"/>
              <a:buChar char="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Bernières sur Mer (1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A998-22A1-44CE-8084-C41829317E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5888F-AC2D-4021-8812-DB1D4B8B18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50480"/>
            <a:ext cx="8640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Molècules suiv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143000"/>
            <a:ext cx="8001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IRSE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: Pesticides (atrazine, simazine, diuron, isoproturon) Pharmas (sulfamethoxazole, roxithromycine +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utr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, ioprom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mplémentaire : DEHP, benzothiazole,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onalide, galaxolide, pentachlorophénol, triclosan, bisphénol A, tertbutylphénol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PTC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: AKP, Pharmas (carbamazépine, ibuprofène, diclofénac, diazépam), HAP (1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emagref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: Pesticides (glyphosate, AMPA), bétabloquants (aténolol, propanolol, métoprol, sotal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mplémentaire : Métaux, CO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mplémentaire : liste ECHIBIOTEB (dont anti-cancéreux, hormones(160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A80D-E1D7-4B7A-AF01-A8B57EA6B4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A935D-B2EB-4B10-8F89-B5C596F365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3685"/>
                </a:solidFill>
                <a:latin typeface="Verdana"/>
              </a:rPr>
              <a:t>Stratégie d’échantillonn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 fontScale="87000"/>
          </a:bodyPr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ASE1-PA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Filtration sur sable + ozonation + Charbon act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vembre 2010, sur 3 sema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Objectifs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-157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éterminer les conditions optimales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de fonctionnement (dose d’O3, débit dan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lonn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-157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mparer FAS + O3 à BRM + 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15 échantill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Échantillons moyens 2 he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2 doses d’O3, 1 charge de CA, étalé dans le tem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Nécessité d’une pré-analyse de l’eau pour fixer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protocole (début octobr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Echibioteb 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523880"/>
            <a:ext cx="2057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olonne pilote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lonne%20CA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7144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5205-CAEC-47B2-93AF-C836A03C22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5997F-07AB-4CCF-A6D8-A7653A08A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Stratégie d’échantillon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 fontScale="82000"/>
          </a:bodyPr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E1-PA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: Filtration sur sable + ozonation + Charbon act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Novembre 2010, sur 3 sema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é-analy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mière sema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 FAS x O3 (D1) x CA (C1) x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4+1 (2 fois entré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 O3 (D2) x CA (C1) x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maine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 O3 (D1) x CA (C1) x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 O3 (D2) x CA (C1) x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 bout de trois mois (début fev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x O3 (D1) .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 (C1) x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 bout de 6 mois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 O3 (D1) .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 (C1) x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7-1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A914-EFEC-4806-BD3E-9E970FBE65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98B91-C6D2-469C-AF18-268D3CA909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Stratégie d’échantillon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 fontScale="99000"/>
          </a:bodyPr>
          <a:p>
            <a:pPr marL="178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E2-PA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: BRM suivi d’un pilote d’oxydation avancée (O3/H2O2/U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Avril 2011, sur 3 semaines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bjectifs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-178920">
              <a:spcBef>
                <a:spcPts val="4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ster l’efficacité de différente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binaisons de procédés avancé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-178920">
              <a:spcBef>
                <a:spcPts val="4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arer FAS + O3 à BRM + 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5 échantill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chantillons moyens 2 heures ou 4 he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4 combinaisons O3+H2O2, 2 combinaisons UV+H2O2, 2 combinaisons O3+U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892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676680" cy="275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8520" y="1828800"/>
            <a:ext cx="2057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B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963A-5727-4B01-982D-B5EF9D502E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342A1-9EAA-4E9F-89D5-2318426796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Stratégie d’échantillon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E2-PA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: BRM suivi d’un pilote d’oxydation avancée (O3/H2O2/U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Avril 2011, sur 3 semaines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00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600200"/>
            <a:ext cx="2057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lote AO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42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86A1-0B75-4D99-BDAC-01FDC4FB49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AD0EF-CECC-438B-B035-674E110AB4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AS%20+%20O3" descr=""/>
          <p:cNvPicPr/>
          <p:nvPr/>
        </p:nvPicPr>
        <p:blipFill>
          <a:blip r:embed="rId1"/>
          <a:stretch/>
        </p:blipFill>
        <p:spPr>
          <a:xfrm>
            <a:off x="4800600" y="4876920"/>
            <a:ext cx="4816440" cy="1520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152280"/>
            <a:ext cx="83264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a3685"/>
                </a:solidFill>
                <a:latin typeface="Verdana"/>
              </a:rPr>
              <a:t>Stratégie d’échantillon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0" anchor="t">
            <a:normAutofit/>
          </a:bodyPr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SE3-P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: FAS en amont/aval d’un pilote d’oxydation avancée (O3+H2O2 et U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eptembre 2011, sur 3 sema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bjectifs 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arer les POA avec le traitement par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aluer toxicité éventuelle sous-produ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5-20 échantill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chantillons moyens 2 heures ou 4 he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4495680"/>
            <a:ext cx="2057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AS + O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C865-6500-42EA-BAFF-0F562A0CEA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74507-7BEC-4141-89D2-41DC007492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4:46:58Z</dcterms:created>
  <dc:creator>S. Besnault</dc:creator>
  <dc:description/>
  <dc:language>en-US</dc:language>
  <cp:lastModifiedBy>miege</cp:lastModifiedBy>
  <dcterms:modified xsi:type="dcterms:W3CDTF">2010-09-01T10:56:44Z</dcterms:modified>
  <cp:revision>271</cp:revision>
  <dc:subject/>
  <dc:title>Lancement SL0803</dc:title>
</cp:coreProperties>
</file>